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9349-75F9-4A5E-B886-674956FF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086-043A-41B0-96BC-2B464084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133AC-84C3-48D0-8D70-C9E28603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829C6-906D-4810-8504-15F7101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784B5-216A-41E7-8CA6-58420F31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629CC-2ABC-4EA7-86B7-CA1F4BE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1C72E-CB7F-485A-B843-33C057E3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3E666-0514-499B-AB61-D7D6F0D0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BC8BD-71A4-4E8B-B916-657BB74E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63FD8-AA8B-4B86-8373-BA268308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227A-538A-48A2-ADDF-EEC2DA1E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B45E6-B8EA-4306-9D2A-887CAF4E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47A-76FF-44C3-823C-5FAB5BA4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872CB-C464-4D35-9B7F-AF21F32C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7B867-0C2A-43FE-9564-5D214FF9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1251B-D98F-4FE1-BB0A-33D816E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3F49F-FE9A-401F-8F7E-6A1AB52C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F7FA0-6543-4900-9769-D1FF67F7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C1DAE-410E-4841-8445-938FD95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E651-8183-46B7-B481-C9DEA6DD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95D50-9284-4CC5-AAAA-88DF8F2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2497A-CDA1-4EB3-A863-C4784FA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9785D-AD32-48DD-A23F-3DEB3A53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67B-D22E-415A-9D1B-32A47083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5513C-EF32-41C8-A7FA-97248A36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9555E-1672-4EC6-9ED1-7CD10842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ADB48-3A59-41A6-B7A1-40A2AA7D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1F36D-D062-4161-AFDE-570EED27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E0D38-0B87-43F2-820A-D3D5102C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A9D3D-F05E-4532-8F87-16FD5956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3D7BC-B0AC-449C-917B-871FC51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69328-6A57-43C4-8937-11346A3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86B3F-98B7-44DA-867E-3413166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E637B-44B7-4477-8996-4FD3EF7F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F4B4-6423-48C1-8698-3BC8229D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D3F80-D4B5-40B3-B8B2-8AFB0DE6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8BA41-BE25-4479-B7A4-950E1121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A935-C51E-4418-A959-EE28C6BC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B21F9-AC14-49F2-AF22-9764C0CB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C6736-C751-47CC-A996-43DD895F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4B452-3CDE-4AD0-B592-7AB514FA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12CB8-EDA8-42A5-8582-13BDC23E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C428F-E666-47D3-974C-5A89B826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664D86-DF30-4DAE-8CDF-11BDBD3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A5121-A840-4BB7-9CA3-8AF41D0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CB11-3925-4CE7-9EC9-F82B52E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58F9D-D979-4D06-9A32-1E291747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1F4ED-F1B5-46A3-B765-788CEC2C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1067A-6F49-497A-9FD2-19484FBE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EAB42-7546-41AC-8828-FA23DDF5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359E1-7EFD-485B-8274-AC66159A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8A1CA-C4C6-4794-85E2-442CD3FE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281D7E-9D67-4622-89E8-EF092806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F0C66-A832-43EE-819D-2E63D23A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B3840-7716-4795-B9CA-229BA516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1E85B-680A-49E8-8B4D-6D8BE04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224A-291F-4B7F-9A92-C6E98858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CFBA8-9E21-4B0C-9470-712AAEF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4BE73-7800-4080-8765-CA90DC46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657D9-63AA-4B44-8FD0-904EB72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C63DF-B598-4B14-A846-D620470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2E428-145E-4B12-B892-3127FD1D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FDFA2-FE8C-460E-9516-E8F29B9A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529B2-E751-49F7-A570-ED9621E3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06F97-6FAE-4EE6-BED3-BC1F8B24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ED0F5-4C32-4145-BACA-26E89C91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0D4A2-60A0-4CE4-839F-6D1AE341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7EA7-C13B-400C-AB5B-D2E93AB6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5FBB11-6CE2-4B39-B388-707FBF9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8EF4B-917E-4AD7-AB22-6F5801D7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6188B-FCD0-4305-9686-6B6C0F36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19149-B235-4041-A295-7EF40A0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80333-8AA6-4353-BE27-0ABFA1E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22FBF-AFF4-4543-89DA-B016263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B08B5-3060-4FCE-9658-686ED892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A42BB-7A96-4FFB-99E3-AB0CFFB1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78AC8-1BDC-42E6-AADB-B1A818C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BD9C44-E07D-4EE2-A1EC-BA48F953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26CA-E826-4068-AD07-6C9F9FCF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2F3E33-021F-43C2-8682-0C852F4C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F3204D-0018-43E1-AB2E-E0FB3D69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BF8A1-906C-45F9-8A86-02D5D0A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AE769-43DF-45FA-845C-F3DA1489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4C7BE4-90E2-4413-AF6F-AFFFCEA8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5C63A-2F94-4016-BFEB-7601449E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AFE1BC-4EB0-4824-9661-94830AF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746BB-BB49-43A2-BC78-7B9BB8A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5EAA1-F66A-4689-B01D-2EE8AA48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F3923D-D7D1-4DB5-889D-55E44FA7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0C16-8841-4680-9F61-8E318F0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DB888-6C59-473B-8A89-727464C6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250DC9-2081-4696-BC5E-2598499A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C9D655-99A6-4328-BBB3-0AB2804E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9B9DEB-5A02-44A1-9994-864BC715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E37A2-FC61-4AFF-B34B-F2AE4470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9C069-1525-48C4-BA28-23AC822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3BEA6-9CF0-4E70-9006-3D16128B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AE325-5B4D-40EF-97EE-4751ED98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7923D-195F-49D8-8583-9C70AC8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03B52-F9E5-4304-B0F8-E4A5CCA1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8091-F421-44FB-97A7-4923CC04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BF953D-3942-4941-9D4E-7EAB0D8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59DE9-7E06-4260-8382-BAC04301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8F97C-3F2E-46A7-8AB3-C712A29BA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7251B-1346-4401-9843-F4B819B6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DCCD8B-CDD0-46EF-ABA1-5DEE5BE6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768C5-4CB0-4932-9C00-3C940A42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12E0C-8122-481B-9DF8-3A95DF9A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745D0-B388-44B2-9DE0-A7C14C24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6F8D5-940D-437A-9A20-5A05685E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77CAC-0DC9-4BBD-8FD7-04CF302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A4E8-9875-4C7F-B37A-7E261E85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4932-9BF7-4006-B82E-47C7B57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94509-5532-4783-953B-FF51C92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FA074D-F49D-4326-9794-E42CF807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E09C4B-7F27-4B7D-9E81-563EEF04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989D52-B358-468B-BF0A-12FC9414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6FF54-4AEB-4365-8EC0-2655B2902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8FADC-59B3-46DB-AC9B-DDD86631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B2B12F-DF49-4624-BF31-03DCB4E9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B1642-0194-44A5-B544-BD6A10AD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7991D2-426D-44D8-8992-14EE102B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71593C-5578-443D-ACFA-66E21921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02E5-704D-48BF-AF07-AF150BD2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0837C-24CB-4557-B57C-A9E2044D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E4F024-E937-43EC-8C09-C9CF1976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20E52-14BC-4BB1-85C9-F141F64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6F2FA7-1A52-4A97-8AA1-82BB3A9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754E6-10EE-480E-B3DD-96E7AC29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B8D86-13BE-40E9-BF65-5DB259EC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B6C59-D9FF-4318-AAED-3C25FD5B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F1A8C-3590-4A13-B36B-0D4F9C08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E21B3-0740-4D36-92E7-59548B77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B88964-0C54-473E-88CA-56DFC2B6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2E95-D82E-4A57-850C-32B1CF80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9C8A3-F7E8-4FDE-9375-DF8C1166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1FBFD-B603-4571-BF34-93178B34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5C684-9478-477F-94BB-9F1DCEA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4564AC-58A8-4748-BDBA-86AD7F5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4182E-4241-4D4D-B7CF-E539267C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29D93-EA73-499E-98BC-95943DF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082D7-21B9-4A82-80F9-9456C079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7A3AFE-50FE-4F24-9B55-7224CFFA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D9D6FE-BFDE-41B2-B6F7-0FF2F0CA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39B420-5B2D-4197-96FD-691255C2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DCB-84EB-4F35-B4D4-3E0D88F8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76F64-5FE4-4A84-94E6-39A35111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4B6EE-960B-44DF-AEEC-DE11535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4DDF5-F10A-4D06-9F0A-A7801A0B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894424-0A6D-41C5-9DA4-46C7979D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D20EE-890A-4760-988A-E049DA51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DF63C-53D6-4E7A-84B4-4ABACDC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95426-F125-4253-9C42-8FBE67E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3A079-C975-4F07-BB5D-BCE458EE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76DD7-972B-4729-A100-D87DDF94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28975-BF5E-4929-B9F4-CBB9FB92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544F-36E9-468A-AD7E-B0E8746D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7E3FB-856B-4E6D-B434-48C406C5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CA18C4-A753-48D9-9776-FF0AE5A2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CC4CF-0529-4B52-830F-9D7E56EA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A8F3C-B210-4102-9D3B-EC3D9DA9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D5DA2-D78F-434A-86DC-A62F79BA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16F4C2-5F72-4716-97CE-904F10DC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686A9-1243-4A2B-A597-4FAB12B5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51A220-6D58-464E-AD4E-841AF49A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4C8168-3A29-40CF-8A18-67EC7695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DC78E-1336-4266-A453-4AD4C76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EE0B0-7111-4415-A6E7-C7FB2FFC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66A7A-9EFF-41FC-AD46-4F07044B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BDB19-D4BB-43E7-A028-4301EC19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A2FD2-50DC-4BBF-B165-EC31B55B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782462-E345-47D5-AB62-1C034B6E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D205FC-DF5E-4427-92B8-F0066469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EB618-D026-482A-9B7F-36C65DED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79016-25CC-487C-B095-5F2F8F9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62E13-0E8F-4112-A890-B22C25EB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D33B7B-6AE3-417A-B19F-52467D30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D924A7-F694-4521-9778-2A5B7034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E570-2FE8-49C8-A682-640B1BBB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9B3B65-BA08-4B75-9EDD-608EBFD6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49D305-BD6D-4AE8-AAB7-D6899EE3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706DD7-D8C9-4B0B-A280-565EBBFA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37F779-F6BC-4991-86C1-118B2F5B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533874-5382-4158-B933-44D8514E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8D3F2E-59CF-4C85-BB71-2F2EF421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CD269-EC44-4E2F-BA95-CC0E7E28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5A2F8D-6FC8-4D73-A7E3-FC626971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479AD0-4FBE-4F01-B7B0-7A5E681B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0E31C-C84D-45E6-A2F1-17D4F358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48AE-8309-41B0-92B3-6DDDBF6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CF71E-4AB7-4DE6-AC16-7983EE52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2D1650-D743-4691-8AF2-210E13A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241315-1C99-4D5F-B936-60F2BBE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6AC8C5-6AFA-4442-B5AC-D051B9F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277B8B-8BA7-4997-94AC-8CC99BF1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C3C6E3-5BE0-4C1B-AC42-7993419F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68C199-66F1-4788-A203-EF3B1FB2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83E22-D85A-4676-A6D0-A8614773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DDD5-9963-436B-BE89-32B317C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74A7-8710-4749-845F-C548B052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FD37-E92C-4EBD-8F64-A582D53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B5F4-FB30-4DA6-B96E-ECA93200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60C4-D108-4401-BE40-E2290911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4F0E-8043-4306-9E80-B797DC2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227A-0E92-4699-978A-76135A39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2797-04EC-4063-A38F-E608845C4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7F0E-10EA-40EE-885C-0B1B6125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C0250-AD06-4EFF-884A-1C140917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6615-FF74-4BE4-A663-2D10AAF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56DC-13E2-42F7-BA7C-FEB6146B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DCD-762F-4A56-AEF4-88AECE4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00BAD-77CD-4222-AC59-4168474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1DA1-D372-41D3-8804-79A41622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71C0D-45D7-4257-A752-086AA34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F4D6D-CE88-4DF7-880D-D049FCFB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A4AA-69A5-46C4-B44C-ACB97901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E9C2-7243-406B-976A-550B388C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F8D3-7BD7-443F-B8DE-C17CD58D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9B61-D119-4C39-B664-A935A8BF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C88DC-D00D-4DEE-9418-E4CB5516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B9756-0731-457E-AE56-11534D7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825-82F1-4740-AC8E-0CDAE344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3E10-663A-4B67-8F41-FF212446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824DC-EC87-49A1-AA2D-40C98C5A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C41BA-8B5B-4EB0-AE2C-9A770A35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3353C-A850-4194-9B02-69DB1CF9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A82E6-B965-4489-8146-D9FDB485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60A7-A4C8-4EE7-9AA1-37260BF7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8C7D-5389-4E10-887A-8977BEE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E8AD-D424-4A4A-B722-B43CF8BB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BA29-8C68-4D20-AD42-346501B4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97CB-4610-412B-A82E-394A6B09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258-D272-44F7-AD8E-EFE77A8B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828B-5AF2-44D5-BD9F-F5B91776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25CC8-A1EA-4936-A046-0CC4FA68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A811-D7ED-47BC-BD9E-517D61CA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15C6D-DB62-4AF1-907A-F9FAE00E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9AC0B-B560-437D-8E6C-4394CC11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C470D-355D-4A39-AEFB-16FEAC10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4480-FD89-404F-836E-F3B04960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16E98-CB80-4655-96C8-5527A715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A3524-0E07-42EF-9CAE-958E78D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BFFC7-F9EB-45F2-9308-E6FBAC3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E0F-96B5-4727-A088-3D05EB46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89D36-570A-47A8-AC33-528B5E0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0CD2-68CF-4BFA-B1FF-AB35873B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E54F3-C7F5-4032-99C1-0A963FE8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26611-D875-475C-8A2D-F53B2B6C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717B6-1E04-4B68-9230-0179A8E3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81D30-0DA1-48C8-87D7-23C38D0A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01476-C87E-47AB-9BDE-53207104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530EF-3B47-4123-B468-FF360EAF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FAC2-6891-4D16-A8CE-258C7FE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A9B9-1E49-4419-87F7-7B6C9946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A7C-35C1-457A-90BB-F0E0AC5F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5E6A5-C34C-492B-A935-AA9B038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C6898-6745-4374-A48F-E059690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5E8C0-FA38-4473-B5A1-F0733955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572D-83DD-4C97-B1BE-59732BC6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3BCC5-6182-4BD0-A342-8C9CB51C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A25C4-0838-4093-86AC-A8D40E0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4EE5A-E956-41C6-99E5-AC0A144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AC2E-5555-4F86-B4F7-47CEE8A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0BDF-5BBF-4CE0-92EE-611A6985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D6D52-26DE-4354-99CD-8210DB2B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04E-4803-4C81-91DF-1FDBB2D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116CB-88D2-4CFC-8586-DCBB8E95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D3C22-1DBB-4268-9F56-630E688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E3AD5-192F-4CB2-93EB-779E4DA3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648E0-C53C-4D32-BCA4-D8BF1EE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59A09-8662-4B8C-BFF5-83BA63F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F8FAE-0E02-4D14-A5B0-F0BBC1AA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0E0AE-5886-4FA3-ACED-D4E8F9D8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4D7D6-352E-4A02-B1C4-181D30C3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63981-8D97-42FB-959C-23E7FD84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84E44-9C09-4965-815C-9D396F27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C7F6-A457-431C-A02A-282B9ED4D9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07B-232D-4076-9D0D-DF98FA7DC0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B65-2D67-475B-A304-4E3391D02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4A8-0280-4D5D-A7C6-98162F9C6E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2304-E5FD-4C27-857C-72DBCA4487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0520-32AB-4FAC-976C-7C5E988936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427-C7DC-470C-91AD-CE5C597FF4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84B5-CC72-42CE-A6CB-B7AF863141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AE86-F07B-4379-9D66-1E51790A0E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834B-6113-4F32-8B4B-25937D456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763E-306C-4E59-B673-66C49EFAE3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2A0-A2FC-4184-980F-37B200A6B5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8C06-D9BF-4751-90D6-C4808EB68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0F3D-CA76-40C0-A6DB-44C68DDA1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A7CD-1EBD-427E-ADCE-19B4D2CFD0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6A06-8E26-4637-8CA3-BAA2669E1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3B7C-A3E8-4C24-9AEC-B2CE8EDA1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7872-3866-49A0-B6FB-D9C3DC896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E7F3-2D56-4BE9-B905-7A9540021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EC2-70E2-4210-869B-FB1B18E357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27C9-DFDB-4981-9D64-CDE7A9C51B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56A4-2944-4A6B-AA0E-956E8A4894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647-D87C-4879-8144-E8894027D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0AB7-BD00-4F71-A439-7B517BE08D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B53B-9681-4F56-AF02-28F6FCDC4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034-00C9-4605-B36A-4839499F2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4C1-99F9-46AE-A284-9E4DB3613E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E64C-4901-4141-A42A-E8305EE8AB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27CD-5038-4CA4-BD88-4671CC138B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08D-524D-4889-8130-093E50EA43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4E7-AE82-45AC-9885-2D5A76D295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ACD-2604-4E01-9D36-B03A4335FF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562D-BE2A-4E9F-B65E-570D3E60CD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16A-1E40-4389-9847-FD2FB352CF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7B31-B2FA-477D-88F7-12A81FC46E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380A-E74C-47A3-BB4D-326F14B0D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9342-9161-418F-B6D9-50BA47C8D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5A88-01EE-4A31-8379-94D3B3B9EA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887C-0941-4A87-BAA5-519FE28F6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CA7E-784B-4D91-B516-C36FA061C2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E564-3F5A-4EA2-B808-95DAE98A3D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970-9948-4367-BC54-6D0D99CAA2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962000" y="3051000"/>
            <a:ext cx="499140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361800" y="2876400"/>
            <a:ext cx="8420400" cy="1105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3119400" y="3459240"/>
            <a:ext cx="1079640" cy="4111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6012000" y="3457440"/>
            <a:ext cx="23763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52280" y="1442880"/>
            <a:ext cx="8839440" cy="39722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2771640" y="2593800"/>
            <a:ext cx="4537080" cy="4114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5364000" y="4278240"/>
            <a:ext cx="2664000" cy="4111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539640" y="4869000"/>
            <a:ext cx="2664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166680" y="1100160"/>
            <a:ext cx="8809200" cy="4657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5148360" y="1714680"/>
            <a:ext cx="3384360" cy="4111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2771640" y="3429000"/>
            <a:ext cx="4969080" cy="4111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4643280" y="5141880"/>
            <a:ext cx="23050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95120" y="822240"/>
            <a:ext cx="87519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0160" y="1685880"/>
            <a:ext cx="87436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33280" y="900000"/>
            <a:ext cx="86756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09520" y="861840"/>
            <a:ext cx="8724960" cy="5134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518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518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1258920" y="3760920"/>
            <a:ext cx="518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1476360" y="4336920"/>
            <a:ext cx="518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1476360" y="4927680"/>
            <a:ext cx="6408720" cy="4111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7"/>
          <a:stretch/>
        </p:blipFill>
        <p:spPr>
          <a:xfrm>
            <a:off x="1547640" y="5487840"/>
            <a:ext cx="640908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3" descr=""/>
          <p:cNvPicPr/>
          <p:nvPr/>
        </p:nvPicPr>
        <p:blipFill>
          <a:blip r:embed="rId1"/>
          <a:stretch/>
        </p:blipFill>
        <p:spPr>
          <a:xfrm>
            <a:off x="190440" y="1762200"/>
            <a:ext cx="8763120" cy="33336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50472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1800360" y="2803680"/>
            <a:ext cx="6076800" cy="21621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2" descr=""/>
          <p:cNvPicPr/>
          <p:nvPr/>
        </p:nvPicPr>
        <p:blipFill>
          <a:blip r:embed="rId2"/>
          <a:stretch/>
        </p:blipFill>
        <p:spPr>
          <a:xfrm>
            <a:off x="171360" y="1628640"/>
            <a:ext cx="8675640" cy="10573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295200" y="852480"/>
            <a:ext cx="8694720" cy="56865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190440" y="961920"/>
            <a:ext cx="8763120" cy="56563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1619280" y="2131920"/>
            <a:ext cx="4608360" cy="4111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1835280" y="3241800"/>
            <a:ext cx="2449440" cy="4111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2987640" y="4408560"/>
            <a:ext cx="1079640" cy="411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5"/>
          <a:stretch/>
        </p:blipFill>
        <p:spPr>
          <a:xfrm>
            <a:off x="7885080" y="4394160"/>
            <a:ext cx="1079640" cy="411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6"/>
          <a:stretch/>
        </p:blipFill>
        <p:spPr>
          <a:xfrm>
            <a:off x="4356000" y="6122880"/>
            <a:ext cx="244800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7:4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